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8A5-7FB3-45E2-B69A-9929936F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BC4-72C3-4352-88E1-40640F4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BF2-444F-4581-BF21-4CD68AA2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83B-7AF1-43CF-98F0-6607A713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525-FC7D-49CF-BF6A-CA95BBE6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BFB-A281-4F19-9EA3-40057A45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525-B789-4732-9D49-4BB8F3BB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DBD-8AFD-4DDC-9441-A5B82234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5DB-7A6F-44C9-ACFC-2FE97546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EFA-13D8-4972-805B-40700A74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AF2-1EF8-42C1-992E-D7B7772E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7AF-0756-49ED-B14F-CBB16F3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95D0-471D-40F5-897E-C2D9E5B6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image" Target="../media/image4.wmf"/><Relationship Id="rId7" Type="http://schemas.openxmlformats.org/officeDocument/2006/relationships/image" Target="../media/image1.wmf"/><Relationship Id="rId8" Type="http://schemas.openxmlformats.org/officeDocument/2006/relationships/image" Target="../media/image7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image" Target="../media/image4.wmf"/><Relationship Id="rId7" Type="http://schemas.openxmlformats.org/officeDocument/2006/relationships/image" Target="../media/image1.wmf"/><Relationship Id="rId8" Type="http://schemas.openxmlformats.org/officeDocument/2006/relationships/image" Target="../media/image7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image" Target="../media/image4.wmf"/><Relationship Id="rId7" Type="http://schemas.openxmlformats.org/officeDocument/2006/relationships/image" Target="../media/image1.wmf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image" Target="../media/image4.wmf"/><Relationship Id="rId7" Type="http://schemas.openxmlformats.org/officeDocument/2006/relationships/image" Target="../media/image1.wmf"/><Relationship Id="rId8" Type="http://schemas.openxmlformats.org/officeDocument/2006/relationships/image" Target="../media/image7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learn how to describe 11 c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play brain g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ask each other what chores you have to do and what you think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begin a dramatic homework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cer la c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3351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sear al per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719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var la 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2739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ner la m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81636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sar la aspir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4032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 hacer 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00360" y="19368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1655640" cy="163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219640" y="2133720"/>
            <a:ext cx="1657440" cy="1761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59640" y="260280"/>
            <a:ext cx="1584360" cy="160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1763640" cy="156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2133720"/>
            <a:ext cx="1654200" cy="1726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1835280" y="260280"/>
            <a:ext cx="1520640" cy="165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7020000" y="1989000"/>
            <a:ext cx="1770120" cy="201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1979640" y="4365720"/>
            <a:ext cx="2376360" cy="181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0" y="4437000"/>
            <a:ext cx="2016000" cy="161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3492360" y="2205000"/>
            <a:ext cx="1524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1655640" cy="1630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19640" y="2133720"/>
            <a:ext cx="1657440" cy="1761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559640" y="260280"/>
            <a:ext cx="1584360" cy="1606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1763640" cy="156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0" y="2133720"/>
            <a:ext cx="1654200" cy="172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1835280" y="260280"/>
            <a:ext cx="1520640" cy="165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7020000" y="1989000"/>
            <a:ext cx="1770120" cy="201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79640" y="4365720"/>
            <a:ext cx="2376360" cy="181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4572000" y="4437000"/>
            <a:ext cx="2016000" cy="161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3492360" y="2205000"/>
            <a:ext cx="1524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934920" cy="78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1079280" cy="97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59280" y="443700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826920" y="981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900000" y="1989000"/>
            <a:ext cx="965160" cy="100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900000" y="3068640"/>
            <a:ext cx="966960" cy="1052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900000" y="4437000"/>
            <a:ext cx="93672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quehac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1655640" cy="1630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19640" y="2133720"/>
            <a:ext cx="1657440" cy="176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559640" y="260280"/>
            <a:ext cx="1584360" cy="160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176364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0" y="2133720"/>
            <a:ext cx="1654200" cy="1726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835280" y="260280"/>
            <a:ext cx="1520640" cy="165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7020000" y="1989000"/>
            <a:ext cx="1770120" cy="201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979640" y="4365720"/>
            <a:ext cx="2376360" cy="181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4572000" y="4437000"/>
            <a:ext cx="2016000" cy="1617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3492360" y="2205000"/>
            <a:ext cx="15242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quehac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189000"/>
            <a:ext cx="835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this task, you will need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 speech describing the house as if you were an estate 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need to describe the house and its style in a typical style for an estate 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ch must be 60 to 90 second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might you inclu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’s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re is in your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you recor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bile / camera / voice recorder   IF IN DOUBT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40464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may work in pairs to share ideas, but everyone will need to present their own, individual spee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will have the rest of this lesson, a homework and most of another lesson to prepare a high quality spee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rning, certain speeches might be recorded to ensure quality and for possible training purpos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700280"/>
            <a:ext cx="619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engo qu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 hav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3085920" cy="335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egar los pl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lanchar la 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527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rtar el cés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50403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ci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381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impiar el co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00360" y="4941720"/>
            <a:ext cx="5040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car la bas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6167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7:27:05Z</dcterms:created>
  <dc:creator>Owner1</dc:creator>
  <dc:description/>
  <dc:language>en-US</dc:language>
  <cp:lastModifiedBy>Owner1</cp:lastModifiedBy>
  <dcterms:modified xsi:type="dcterms:W3CDTF">2008-11-16T15:56:13Z</dcterms:modified>
  <cp:revision>6</cp:revision>
  <dc:subject/>
  <dc:title>Slide 1</dc:title>
</cp:coreProperties>
</file>